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Click to move the slide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66B-72BD-4DDD-80C4-DE518E8B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F274-D17F-497D-905A-DC8ACC17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B967-4885-4EB4-811B-F54A681AB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6AD-AEB4-423D-B890-A85D9E67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8389-415A-4FE5-991D-082F7C992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33D6-9D73-4C38-8877-2EAA05F6F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08C5-0273-4A34-BEBC-F05EBE1B2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E2B-4105-4809-880D-179027B7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74E-7C4A-44B0-82C9-DC768978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AAC-A58A-4CB7-8C90-64C148DF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925-9A11-4348-B02C-893B2777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37951-BFB7-4BC3-A8C7-D02ED73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44DB3-EA2D-47EA-BFB0-564B912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C2CF2-E241-4CA2-8C3A-FCFCB083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EF544-2D8D-4199-90DF-C5587100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796DF-E678-48D9-8E46-287092AD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79C56-CE5D-401D-ACF0-2E9B1B0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D94F0-90EC-4E49-8E0F-89C8FBFD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D60E7-26F7-4AF7-90C9-74238812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A370B-44DE-40B9-A553-54B3BAB9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C07-0F28-4DF5-B310-68A44424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FA3C-1931-4AD9-9066-7E160222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315-B00A-457B-AF69-0C1121F7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D9FE-593A-4DDA-B817-779F5993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1D2-917D-435D-BA04-26FEA3AB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E623-51C6-45A1-A0CE-64FDA54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2527-4B95-4111-AA6D-B874B1E7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5DB4-457C-4AB8-AA6D-C5BB109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F0F8-7539-4EA6-B64D-CE4DAFF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885-B035-4825-A5D3-F1B499BC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0784-FF52-4A63-975A-A1A9DE13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CFA3-ED65-4698-A38B-6B6DB21B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6886-9D2B-4E49-B868-C94493B1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8B23-5966-48C7-8C9D-D5C7D01F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3916-FF90-4760-A9CE-7F90853F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E75A7-6C89-4B38-AB88-8C707797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F98B-9722-4D0F-91CD-776CBC23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12A2-489A-4A12-B84F-61839D88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FF09-135E-4A52-9ED9-E432F908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8DA9-EE00-4904-B433-880BB058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6AE-E818-4F9C-B304-EB77F938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C0B46-CEA2-46AC-AB5E-F1CA0F97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8437E-4184-4CE2-8A81-C77143A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E0ED8-5B8B-483A-B945-E4221F6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27189-51D6-428B-A268-715EF0D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3D05-9706-446F-9911-A0BA963D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C823E-76D7-40D1-BC2B-0B055893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A3B3-A8A9-4C7C-A6EE-1E93927F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325C-FE47-4963-B885-987A7FAE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C4195-28C5-4620-AAAB-7002430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B45CE-E73F-436A-930A-4773925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BFC-C46C-46E8-9E8D-DA6C3AD14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B4C65-BE59-45E6-8712-D05D269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02A53-A7F8-4B79-B01F-3AC2D5A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6E0F-98B7-41E5-B3DA-975FD0E9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35CB-2632-4D8E-85E5-E8686666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C4C7-BB98-442A-95F5-C2DEA4E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4F2A-E9E6-4D40-B38D-15AB0B82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1482-0F7A-4FC0-938C-EFC0338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84DBD-9E33-48A7-8A0C-0992FFAC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4434-B87F-4931-9B7A-9E19B0B4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DC5FE-A14B-4184-942F-B0E3B8D4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959-4E80-4AC0-8FCF-88DF874F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C4FC-CE7D-4F65-95DE-0BB420C3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2A7D-D501-4F3A-AEC0-6BC2045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44A5C-65FE-4F17-A707-626DEAFA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997B-96FE-44C3-944B-95A8D3D3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B5F15-C003-40D8-A010-9A58B9D3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483A-B878-41B3-B5AF-CA62723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8ED3-B5AD-4DEA-85DD-2BB1FA75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F6D1-079F-422A-8774-288952F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FC934-31FD-4CAA-867A-03A6F428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C852-98D8-4A36-9AAE-469FA3A9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D4F-5DDD-4E28-B512-7EF4DCE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DACD2-B42F-44B6-9FF5-74F4F223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FFA66-A2FC-47AC-A333-32632888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EE55-1C4B-4EB6-B4CD-45B52DDF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DE4F-798C-4015-A7B3-523FEAA7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CC07C-791C-43DE-97F1-76618D0E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DB76B-F576-4F3B-A6E6-D7F0C614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16ED6-F648-436C-959F-CD1AFEB6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50A70-6659-4BAA-BDA8-1BABC41C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4148-C341-4073-A532-4480D118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3681-74EE-4B41-A290-877F5B8B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25C-0E31-4FFE-BC04-491BFE4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963AF-C907-4427-8C4B-B5BB7276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D7507-E195-4025-8A23-9307C48B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552FC-EE65-4CEC-8439-CBEB0462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9258F-5577-4B2F-8C72-EA9538D9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C167-B594-494C-8A5F-134C47E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8B207-3F97-4481-AB4C-C1F1031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8DBB7-3527-4E48-AA27-5D409B09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B514B-3D2A-4F7D-BB73-95478D6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74ECB-0772-4675-9438-BAFFF6D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C08D3-8FCA-4FA7-8DC6-CA120E8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D82-E8B5-4DFF-A41E-B83D5BC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5280-ADC2-43AB-AAFF-BCAF1B3C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78A3-0768-46D6-8B8D-8787DFD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5E676-AE75-4842-94AF-9A8B203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2702D-8D8C-44FF-93FA-3D152272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8D13-477E-461E-A07F-2BF6C087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EA523-4E0F-419F-85F6-A47B15057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BEE3-6EE0-4010-ABF5-5B7CFB8B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BF985-0A01-416C-AB86-E43E92FD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6043-1C1E-4744-85D5-6208D9F8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A04D-D4DD-4770-AC94-48A56451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C8B-F1F1-4758-A4C0-EC80D59E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4082F-B60B-472C-BBEE-FEE4284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46714-DAE6-497D-B800-5B5A6C21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1B035-9723-42FE-A96C-709440C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82860-5B7D-465A-B0F2-075E3FE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10A42-9199-4DEC-AFA9-F7E5F9EF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EFDAA-05C9-4A94-92EB-20E1DA72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7E981-ADE5-44E6-97A1-5B804314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4AAF-0F6D-4875-9E95-1450D0D9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DB95C-C88F-4427-8E02-67135B51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3977-91C5-4540-BD68-38606CE5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Click to edit the title text forma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CA45-38FA-44FE-923B-688AA48D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C977-2ABC-4242-8E1F-A318DFE5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419-DC0F-493E-A7B0-599B58C6A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5C1B-B4A5-439E-A467-98F58C825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E37-F314-47E6-9C09-F0CEFAB41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62E-7BEE-4579-A410-1D1CEB340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688B-07D9-466C-AA6B-48948F204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3339-2854-4372-A03A-70510BEA7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96012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234440" indent="-1371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6AC0-3A23-4A7D-8F3F-D39C27BB7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2.3: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Objective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basic terminology related to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linear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symbol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inear equations graphically and numer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intermediate valu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problems involving perce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oblem-solv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Vocabular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: a statement that two mathematical expressions ar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: find all values that would make the equation true (these are solutions, they satisfy the eq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equations: equations with the same soluti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diction: an equation with no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: a equation that is only solved by some values for th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325"/>
          <p:cNvSpPr/>
          <p:nvPr/>
        </p:nvSpPr>
        <p:spPr>
          <a:xfrm>
            <a:off x="7512120" y="3943440"/>
            <a:ext cx="231840" cy="3078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326"/>
          <p:cNvSpPr/>
          <p:nvPr/>
        </p:nvSpPr>
        <p:spPr>
          <a:xfrm>
            <a:off x="7508880" y="3943440"/>
            <a:ext cx="274680" cy="320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327"/>
          <p:cNvSpPr/>
          <p:nvPr/>
        </p:nvSpPr>
        <p:spPr>
          <a:xfrm>
            <a:off x="7864560" y="4011480"/>
            <a:ext cx="158760" cy="21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328"/>
          <p:cNvSpPr/>
          <p:nvPr/>
        </p:nvSpPr>
        <p:spPr>
          <a:xfrm>
            <a:off x="7840800" y="4000680"/>
            <a:ext cx="1951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329"/>
          <p:cNvSpPr/>
          <p:nvPr/>
        </p:nvSpPr>
        <p:spPr>
          <a:xfrm>
            <a:off x="8150400" y="4103640"/>
            <a:ext cx="2880" cy="360"/>
          </a:xfrm>
          <a:prstGeom prst="pie">
            <a:avLst/>
          </a:prstGeom>
          <a:solidFill>
            <a:srgbClr val="0080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330"/>
          <p:cNvSpPr/>
          <p:nvPr/>
        </p:nvSpPr>
        <p:spPr>
          <a:xfrm>
            <a:off x="8150400" y="4094280"/>
            <a:ext cx="158400" cy="9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331"/>
          <p:cNvSpPr/>
          <p:nvPr/>
        </p:nvSpPr>
        <p:spPr>
          <a:xfrm>
            <a:off x="8389800" y="3921120"/>
            <a:ext cx="11160" cy="3430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332"/>
          <p:cNvSpPr/>
          <p:nvPr/>
        </p:nvSpPr>
        <p:spPr>
          <a:xfrm>
            <a:off x="8583480" y="4051440"/>
            <a:ext cx="138240" cy="6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333"/>
          <p:cNvSpPr/>
          <p:nvPr/>
        </p:nvSpPr>
        <p:spPr>
          <a:xfrm>
            <a:off x="8572680" y="4125960"/>
            <a:ext cx="182520" cy="23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334"/>
          <p:cNvSpPr/>
          <p:nvPr/>
        </p:nvSpPr>
        <p:spPr>
          <a:xfrm>
            <a:off x="8104320" y="4400640"/>
            <a:ext cx="193680" cy="2746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335"/>
          <p:cNvSpPr/>
          <p:nvPr/>
        </p:nvSpPr>
        <p:spPr>
          <a:xfrm>
            <a:off x="8400960" y="4422600"/>
            <a:ext cx="114480" cy="1717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336"/>
          <p:cNvSpPr/>
          <p:nvPr/>
        </p:nvSpPr>
        <p:spPr>
          <a:xfrm>
            <a:off x="8389800" y="4378320"/>
            <a:ext cx="14760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337"/>
          <p:cNvSpPr/>
          <p:nvPr/>
        </p:nvSpPr>
        <p:spPr>
          <a:xfrm>
            <a:off x="8640720" y="4435560"/>
            <a:ext cx="125280" cy="111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338"/>
          <p:cNvSpPr/>
          <p:nvPr/>
        </p:nvSpPr>
        <p:spPr>
          <a:xfrm>
            <a:off x="8686800" y="4343400"/>
            <a:ext cx="3492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339"/>
          <p:cNvSpPr/>
          <p:nvPr/>
        </p:nvSpPr>
        <p:spPr>
          <a:xfrm>
            <a:off x="8858160" y="4264200"/>
            <a:ext cx="17172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340"/>
          <p:cNvSpPr/>
          <p:nvPr/>
        </p:nvSpPr>
        <p:spPr>
          <a:xfrm>
            <a:off x="5807160" y="5464080"/>
            <a:ext cx="239760" cy="2397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341"/>
          <p:cNvSpPr/>
          <p:nvPr/>
        </p:nvSpPr>
        <p:spPr>
          <a:xfrm>
            <a:off x="6068880" y="5440320"/>
            <a:ext cx="138240" cy="228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342"/>
          <p:cNvSpPr/>
          <p:nvPr/>
        </p:nvSpPr>
        <p:spPr>
          <a:xfrm>
            <a:off x="6080040" y="5440320"/>
            <a:ext cx="138240" cy="25236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343"/>
          <p:cNvSpPr/>
          <p:nvPr/>
        </p:nvSpPr>
        <p:spPr>
          <a:xfrm>
            <a:off x="6378480" y="5475240"/>
            <a:ext cx="17172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344"/>
          <p:cNvSpPr/>
          <p:nvPr/>
        </p:nvSpPr>
        <p:spPr>
          <a:xfrm>
            <a:off x="6378480" y="5521320"/>
            <a:ext cx="1936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345"/>
          <p:cNvSpPr/>
          <p:nvPr/>
        </p:nvSpPr>
        <p:spPr>
          <a:xfrm>
            <a:off x="6675480" y="5408640"/>
            <a:ext cx="171360" cy="270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346"/>
          <p:cNvSpPr/>
          <p:nvPr/>
        </p:nvSpPr>
        <p:spPr>
          <a:xfrm>
            <a:off x="6835680" y="5486400"/>
            <a:ext cx="158760" cy="160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347"/>
          <p:cNvSpPr/>
          <p:nvPr/>
        </p:nvSpPr>
        <p:spPr>
          <a:xfrm>
            <a:off x="6858000" y="5440320"/>
            <a:ext cx="114480" cy="2858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Linear equation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equation in one variable that can be written in the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+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306"/>
          <p:cNvSpPr/>
          <p:nvPr/>
        </p:nvSpPr>
        <p:spPr>
          <a:xfrm>
            <a:off x="5121360" y="2652840"/>
            <a:ext cx="35388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307"/>
          <p:cNvSpPr/>
          <p:nvPr/>
        </p:nvSpPr>
        <p:spPr>
          <a:xfrm>
            <a:off x="5554800" y="2811600"/>
            <a:ext cx="309600" cy="3204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308"/>
          <p:cNvSpPr/>
          <p:nvPr/>
        </p:nvSpPr>
        <p:spPr>
          <a:xfrm>
            <a:off x="5611680" y="2811600"/>
            <a:ext cx="274680" cy="285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309"/>
          <p:cNvSpPr/>
          <p:nvPr/>
        </p:nvSpPr>
        <p:spPr>
          <a:xfrm>
            <a:off x="6161040" y="2879640"/>
            <a:ext cx="341280" cy="34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310"/>
          <p:cNvSpPr/>
          <p:nvPr/>
        </p:nvSpPr>
        <p:spPr>
          <a:xfrm>
            <a:off x="6216480" y="3006720"/>
            <a:ext cx="309600" cy="22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311"/>
          <p:cNvSpPr/>
          <p:nvPr/>
        </p:nvSpPr>
        <p:spPr>
          <a:xfrm>
            <a:off x="6897600" y="2583000"/>
            <a:ext cx="347760" cy="5824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312"/>
          <p:cNvSpPr/>
          <p:nvPr/>
        </p:nvSpPr>
        <p:spPr>
          <a:xfrm>
            <a:off x="6618240" y="3532320"/>
            <a:ext cx="21744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MARTPenAnnotation313"/>
          <p:cNvSpPr/>
          <p:nvPr/>
        </p:nvSpPr>
        <p:spPr>
          <a:xfrm>
            <a:off x="7051680" y="3303720"/>
            <a:ext cx="27144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MARTPenAnnotation314"/>
          <p:cNvSpPr/>
          <p:nvPr/>
        </p:nvSpPr>
        <p:spPr>
          <a:xfrm>
            <a:off x="5315040" y="3600360"/>
            <a:ext cx="228600" cy="208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MARTPenAnnotation315"/>
          <p:cNvSpPr/>
          <p:nvPr/>
        </p:nvSpPr>
        <p:spPr>
          <a:xfrm>
            <a:off x="5761080" y="3279600"/>
            <a:ext cx="284040" cy="457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MARTPenAnnotation316"/>
          <p:cNvSpPr/>
          <p:nvPr/>
        </p:nvSpPr>
        <p:spPr>
          <a:xfrm>
            <a:off x="4594320" y="3979800"/>
            <a:ext cx="285480" cy="6606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MARTPenAnnotation317"/>
          <p:cNvSpPr/>
          <p:nvPr/>
        </p:nvSpPr>
        <p:spPr>
          <a:xfrm>
            <a:off x="5018040" y="4206960"/>
            <a:ext cx="343080" cy="3078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318"/>
          <p:cNvSpPr/>
          <p:nvPr/>
        </p:nvSpPr>
        <p:spPr>
          <a:xfrm>
            <a:off x="5064120" y="4137120"/>
            <a:ext cx="297000" cy="4460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MARTPenAnnotation319"/>
          <p:cNvSpPr/>
          <p:nvPr/>
        </p:nvSpPr>
        <p:spPr>
          <a:xfrm>
            <a:off x="5051520" y="4583160"/>
            <a:ext cx="4680" cy="360"/>
          </a:xfrm>
          <a:prstGeom prst="pie">
            <a:avLst/>
          </a:prstGeom>
          <a:solidFill>
            <a:srgbClr val="008000"/>
          </a:solidFill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MARTPenAnnotation320"/>
          <p:cNvSpPr/>
          <p:nvPr/>
        </p:nvSpPr>
        <p:spPr>
          <a:xfrm>
            <a:off x="5521320" y="4206960"/>
            <a:ext cx="27288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MARTPenAnnotation321"/>
          <p:cNvSpPr/>
          <p:nvPr/>
        </p:nvSpPr>
        <p:spPr>
          <a:xfrm>
            <a:off x="6024600" y="3932280"/>
            <a:ext cx="284040" cy="490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MARTPenAnnotation322"/>
          <p:cNvSpPr/>
          <p:nvPr/>
        </p:nvSpPr>
        <p:spPr>
          <a:xfrm>
            <a:off x="6697800" y="4057560"/>
            <a:ext cx="3204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MARTPenAnnotation323"/>
          <p:cNvSpPr/>
          <p:nvPr/>
        </p:nvSpPr>
        <p:spPr>
          <a:xfrm>
            <a:off x="6721560" y="4137120"/>
            <a:ext cx="250920" cy="1141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MARTPenAnnotation324"/>
          <p:cNvSpPr/>
          <p:nvPr/>
        </p:nvSpPr>
        <p:spPr>
          <a:xfrm>
            <a:off x="7201080" y="3911760"/>
            <a:ext cx="317160" cy="403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Properties of equali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+c=b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property of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, b, and c are real numbers, an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b th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=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300"/>
          <p:cNvSpPr/>
          <p:nvPr/>
        </p:nvSpPr>
        <p:spPr>
          <a:xfrm>
            <a:off x="4437000" y="2766960"/>
            <a:ext cx="260280" cy="3193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MARTPenAnnotation301"/>
          <p:cNvSpPr/>
          <p:nvPr/>
        </p:nvSpPr>
        <p:spPr>
          <a:xfrm>
            <a:off x="4794120" y="2759040"/>
            <a:ext cx="255600" cy="2682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MARTPenAnnotation302"/>
          <p:cNvSpPr/>
          <p:nvPr/>
        </p:nvSpPr>
        <p:spPr>
          <a:xfrm>
            <a:off x="5268960" y="2800440"/>
            <a:ext cx="228600" cy="572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MARTPenAnnotation303"/>
          <p:cNvSpPr/>
          <p:nvPr/>
        </p:nvSpPr>
        <p:spPr>
          <a:xfrm>
            <a:off x="5268960" y="2892600"/>
            <a:ext cx="263520" cy="44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MARTPenAnnotation304"/>
          <p:cNvSpPr/>
          <p:nvPr/>
        </p:nvSpPr>
        <p:spPr>
          <a:xfrm>
            <a:off x="5715000" y="2720880"/>
            <a:ext cx="272880" cy="34128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MARTPenAnnotation305"/>
          <p:cNvSpPr/>
          <p:nvPr/>
        </p:nvSpPr>
        <p:spPr>
          <a:xfrm>
            <a:off x="6058080" y="2639880"/>
            <a:ext cx="171360" cy="12564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Ways to solve linear equations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2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basic graph2"/>
          <p:cNvPicPr/>
          <p:nvPr/>
        </p:nvPicPr>
        <p:blipFill>
          <a:blip r:embed="rId1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  <p:sp>
        <p:nvSpPr>
          <p:cNvPr id="437" name="SMARTPenAnnotation288"/>
          <p:cNvSpPr/>
          <p:nvPr/>
        </p:nvSpPr>
        <p:spPr>
          <a:xfrm>
            <a:off x="1339920" y="3257640"/>
            <a:ext cx="1842840" cy="7779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MARTPenAnnotation289"/>
          <p:cNvSpPr/>
          <p:nvPr/>
        </p:nvSpPr>
        <p:spPr>
          <a:xfrm>
            <a:off x="3121200" y="3457440"/>
            <a:ext cx="2215800" cy="233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MARTPenAnnotation290"/>
          <p:cNvSpPr/>
          <p:nvPr/>
        </p:nvSpPr>
        <p:spPr>
          <a:xfrm>
            <a:off x="5154480" y="3371760"/>
            <a:ext cx="352440" cy="46188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MARTPenAnnotation291"/>
          <p:cNvSpPr/>
          <p:nvPr/>
        </p:nvSpPr>
        <p:spPr>
          <a:xfrm>
            <a:off x="6024600" y="5159520"/>
            <a:ext cx="68400" cy="87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MARTPenAnnotation292"/>
          <p:cNvSpPr/>
          <p:nvPr/>
        </p:nvSpPr>
        <p:spPr>
          <a:xfrm>
            <a:off x="6208560" y="4800600"/>
            <a:ext cx="4284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MARTPenAnnotation293"/>
          <p:cNvSpPr/>
          <p:nvPr/>
        </p:nvSpPr>
        <p:spPr>
          <a:xfrm>
            <a:off x="6411960" y="4468680"/>
            <a:ext cx="11160" cy="3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294"/>
          <p:cNvSpPr/>
          <p:nvPr/>
        </p:nvSpPr>
        <p:spPr>
          <a:xfrm>
            <a:off x="6400800" y="4449600"/>
            <a:ext cx="44280" cy="7164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295"/>
          <p:cNvSpPr/>
          <p:nvPr/>
        </p:nvSpPr>
        <p:spPr>
          <a:xfrm>
            <a:off x="6583320" y="4079880"/>
            <a:ext cx="46080" cy="684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296"/>
          <p:cNvSpPr/>
          <p:nvPr/>
        </p:nvSpPr>
        <p:spPr>
          <a:xfrm>
            <a:off x="5886360" y="3817800"/>
            <a:ext cx="949320" cy="167976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297"/>
          <p:cNvSpPr/>
          <p:nvPr/>
        </p:nvSpPr>
        <p:spPr>
          <a:xfrm>
            <a:off x="2571840" y="3852720"/>
            <a:ext cx="296640" cy="5580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298"/>
          <p:cNvSpPr/>
          <p:nvPr/>
        </p:nvSpPr>
        <p:spPr>
          <a:xfrm>
            <a:off x="5840280" y="4457880"/>
            <a:ext cx="2183040" cy="457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299"/>
          <p:cNvSpPr/>
          <p:nvPr/>
        </p:nvSpPr>
        <p:spPr>
          <a:xfrm>
            <a:off x="6367320" y="4435560"/>
            <a:ext cx="95400" cy="1015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Intermediate value property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ints on continuous function, then it is assumed that the points between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part of the range for this function, if the domain is betwe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5" descr="basic graph2"/>
          <p:cNvPicPr/>
          <p:nvPr/>
        </p:nvPicPr>
        <p:blipFill>
          <a:blip r:embed="rId1"/>
          <a:stretch/>
        </p:blipFill>
        <p:spPr>
          <a:xfrm>
            <a:off x="5715000" y="3809880"/>
            <a:ext cx="2200320" cy="2257560"/>
          </a:xfrm>
          <a:prstGeom prst="rect">
            <a:avLst/>
          </a:prstGeom>
          <a:ln w="0">
            <a:noFill/>
          </a:ln>
        </p:spPr>
      </p:pic>
      <p:sp>
        <p:nvSpPr>
          <p:cNvPr id="452" name="SMARTPenAnnotation276"/>
          <p:cNvSpPr/>
          <p:nvPr/>
        </p:nvSpPr>
        <p:spPr>
          <a:xfrm>
            <a:off x="6378480" y="4606920"/>
            <a:ext cx="90720" cy="8892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277"/>
          <p:cNvSpPr/>
          <p:nvPr/>
        </p:nvSpPr>
        <p:spPr>
          <a:xfrm>
            <a:off x="7499520" y="4251240"/>
            <a:ext cx="66600" cy="81000"/>
          </a:xfrm>
          <a:prstGeom prst="pie">
            <a:avLst/>
          </a:pr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278"/>
          <p:cNvSpPr/>
          <p:nvPr/>
        </p:nvSpPr>
        <p:spPr>
          <a:xfrm>
            <a:off x="6400800" y="4721400"/>
            <a:ext cx="46080" cy="10285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279"/>
          <p:cNvSpPr/>
          <p:nvPr/>
        </p:nvSpPr>
        <p:spPr>
          <a:xfrm>
            <a:off x="7475400" y="4411800"/>
            <a:ext cx="68400" cy="13777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280"/>
          <p:cNvSpPr/>
          <p:nvPr/>
        </p:nvSpPr>
        <p:spPr>
          <a:xfrm>
            <a:off x="6194520" y="4257720"/>
            <a:ext cx="136440" cy="22212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281"/>
          <p:cNvSpPr/>
          <p:nvPr/>
        </p:nvSpPr>
        <p:spPr>
          <a:xfrm>
            <a:off x="6423120" y="4332240"/>
            <a:ext cx="34920" cy="903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282"/>
          <p:cNvSpPr/>
          <p:nvPr/>
        </p:nvSpPr>
        <p:spPr>
          <a:xfrm>
            <a:off x="6492960" y="4057560"/>
            <a:ext cx="189000" cy="2174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MARTPenAnnotation283"/>
          <p:cNvSpPr/>
          <p:nvPr/>
        </p:nvSpPr>
        <p:spPr>
          <a:xfrm>
            <a:off x="7616880" y="3921120"/>
            <a:ext cx="177840" cy="28404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MARTPenAnnotation284"/>
          <p:cNvSpPr/>
          <p:nvPr/>
        </p:nvSpPr>
        <p:spPr>
          <a:xfrm>
            <a:off x="7840800" y="4068720"/>
            <a:ext cx="81000" cy="16056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285"/>
          <p:cNvSpPr/>
          <p:nvPr/>
        </p:nvSpPr>
        <p:spPr>
          <a:xfrm>
            <a:off x="7840800" y="3807000"/>
            <a:ext cx="206280" cy="28548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286"/>
          <p:cNvSpPr/>
          <p:nvPr/>
        </p:nvSpPr>
        <p:spPr>
          <a:xfrm>
            <a:off x="7932600" y="3851280"/>
            <a:ext cx="262080" cy="149400"/>
          </a:xfrm>
          <a:prstGeom prst="pie">
            <a:avLst/>
          </a:pr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287"/>
          <p:cNvSpPr/>
          <p:nvPr/>
        </p:nvSpPr>
        <p:spPr>
          <a:xfrm>
            <a:off x="5908680" y="4046400"/>
            <a:ext cx="2538360" cy="1005120"/>
          </a:xfrm>
          <a:prstGeom prst="pie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ngelina"/>
              </a:rPr>
              <a:t>Your assignment</a:t>
            </a:r>
            <a:endParaRPr b="0" lang="en-US" sz="5400" spc="-1" strike="noStrike">
              <a:solidFill>
                <a:srgbClr val="1c1c1c"/>
              </a:solidFill>
              <a:latin typeface="Angeli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s 118-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82-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8:17:18Z</dcterms:created>
  <dc:creator>nuhs</dc:creator>
  <dc:description/>
  <dc:language>en-US</dc:language>
  <cp:lastModifiedBy>Ameena</cp:lastModifiedBy>
  <dcterms:modified xsi:type="dcterms:W3CDTF">2008-09-24T20:14:30Z</dcterms:modified>
  <cp:revision>7</cp:revision>
  <dc:subject/>
  <dc:title>2.3: Linear Equations</dc:title>
</cp:coreProperties>
</file>